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DA1-DA4D-458E-A2BD-3CE2EA0E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7AD-FB3C-428F-8D61-1753EC8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378-4FBE-4852-9D60-382C2A22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E23-C51B-47C2-9515-DCDA8516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B1EA-30B6-4825-B231-31818F28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3CC0-A24E-461F-9842-C2D4D29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9A5-7BEA-42E0-9BE3-0FBD8C2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9AC-F1BD-4847-B38E-0A8FA48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633-3454-4503-9C97-B30D3633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34A-C0AA-416C-AC40-7BABAF76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7A41-711B-4E35-A11A-C951FE8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427-CE74-44A6-8F81-3B7838F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D2A-030F-41B1-958F-AB9E740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04CC-6915-4D14-9B8C-E79513F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D6F5-2422-4ADA-9F7C-EE2FCE7C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64A7-9155-45A8-8BB1-139242A1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26E-3A7E-4006-91BF-2F9531D8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98790-E266-492B-9084-93483292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D640A-23EF-4102-874D-89AE9401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7046E-1544-463E-BECC-9AF1856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F9F6D-3E00-4921-97BC-DD8000B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88628-ABD6-4EE1-BDF4-A35E883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259-BEAD-4576-9980-D03A2B3D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16B4A-FBC8-4409-9D76-2FA0653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D977F-BA51-4BCC-A4EA-5D5A896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3869D-620F-468F-A973-50D420ED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04DAB-08A2-4910-9774-8BB4336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311FE-8744-46A3-B8CB-507FC8C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716C1-19C4-405A-95E8-05E8DBA0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6173E-5340-4A2D-92B4-F10AC442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B3ED6-EA10-4871-9E20-D3CF74F4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7C1E9-BDE9-422D-9019-87B06DB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8BDEC-B6D3-490D-8379-3E05F4D1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CC7-EDE1-45F6-B904-F4ACBFF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76BD1-A2C3-4301-91E3-7F1E19A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E5AB7-0A45-42C5-A17B-8355005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709BE-9FF7-49D2-8DF2-23DA4EF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AE3AA-E103-476D-8CF1-768B5B5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64C40-27EA-4C4A-B85D-687D834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2CE59-4472-45D4-AA44-8614494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8EECF-B8A1-4E58-9C2A-12327CA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7AA2C-8199-4E88-AD87-FF62D657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AFAC1-BEC2-4952-9CEF-E931B4A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90613-63EF-4CC2-9137-CF7A0AF6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3E8-E88C-4A3D-B411-0B0F5F6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B7DF4-D7C5-4E90-BC65-4CA63F72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7A4D6-4DC6-46AB-AF70-9AFE8A1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26C5D-1609-4C15-8A48-02FB0CCD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E4B9A-C9FE-4AD6-B099-3A22C97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EFA2B-5425-4073-81AC-D1E7996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0073-2B1B-4B27-B388-F0B34EB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BA7C7-8F33-4FD6-B403-0D12CC9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988CF-DF3B-40D6-A7CF-9DD77D6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ABE21-9E30-4A3F-9647-730A09C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00584-FE23-4172-AF57-83F25051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B52-324D-48A6-99BA-DA5BD56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B2455-C404-4D76-A225-0857FC56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740C-BA3D-45AA-AA39-84B5D5FE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3A21-DBB6-4589-95E2-22656CA3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7579-ACAC-472E-A1BE-E6E7A5EC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6BB4-37FD-4E15-A58F-8C251A2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D63C-FCED-4B70-B353-C4E1BD2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2FA5-64C9-44B9-A551-CFCC01C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D335A-64E2-4DDC-9D42-42446CE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9D7C-2150-4BC6-B07A-1B639CA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895F-6E9A-4343-99F6-A3EFBB6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128-DEC0-4F7B-9F8B-168BDA7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FCD2-B8BC-44AF-ADCC-0F480408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E426-2491-44DA-8A43-4F8D9126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60122-7C9F-4069-A929-6E0F30BD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13FBC-A153-484D-AEF3-F84A50A8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A42CB-9FF7-4A5B-B2C6-EE1A0D7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177C1-B759-4102-9AB3-5F102495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97A06-F8FF-4DC2-AB4C-972938B7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74BE1-ACE0-4A87-953C-62C195F9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C38F3-F45F-4E54-A377-0FA32B5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18BE5-ABB8-4638-8EAE-4E310F6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E84-97B7-4F3A-925C-08A2E90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8E90D-2532-4C2F-800B-35F8A3C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04A8A-C0B7-4234-9495-3CA3874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3332D-4B97-47BF-9C7C-AA7D96B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96D49-74ED-4437-97B8-54950E98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68E68-F28F-4278-BC15-B15EBD2D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F9A3-52E0-4382-BD2C-02865BA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A1F1-2F3D-4995-96DD-8A28FFA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2CD61-387A-404F-8CC1-A5B909E2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7985-B3EF-44A0-8C0A-EE672B3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667B2-FD20-429F-8109-8FE3E54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0D8-3F38-4540-8FCE-2FED55A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39ED4-54DB-40E1-82A7-8ED4CFDB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A502-7373-4EC5-9E20-1185E79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2D61-6718-4C1D-B643-AEB65D0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84A04-460A-4385-A832-7AEDFDC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7391-18E2-4B73-8384-38278D22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F33E-1984-4CDB-AD44-A5716DC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14443-9BD1-4F73-A1F8-39789946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מלבן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מלבן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מלבן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5919-B103-45DB-BA05-ECF4666C1A13}" type="slidenum">
              <a: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מלבן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מלבן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מלבן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20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ebddc3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1B3-8AE1-4198-9764-5A5621BB068D}" type="slidenum">
              <a:rPr b="1" lang="he-IL" sz="1400" spc="-1" strike="noStrike">
                <a:solidFill>
                  <a:srgbClr val="ebddc3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מלבן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מלבן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מלבן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24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0E6-B0CA-4C39-8D7A-9BA85FDD5BAE}" type="slidenum">
              <a:rPr b="1" lang="he-IL" sz="24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מלבן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מלבן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מלבן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128F-A397-4E76-ADCA-3DD759A38832}" type="slidenum">
              <a: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מלבן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מלבן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מלבן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06B-CAC3-4E7D-9CEA-D4C8238517B5}" type="slidenum">
              <a: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30C-6128-4DB3-8353-F3CE786B5F15}" type="slidenum">
              <a:rPr b="1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מלבן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מלבן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מלבן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מלבן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28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43A8-504B-46FC-8B78-D754C858CADB}" type="slidenum">
              <a:rPr b="1" lang="he-IL" sz="28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מלבן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מלבן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מלבן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775f55"/>
                </a:solidFill>
                <a:latin typeface="Times New Roman"/>
                <a:ea typeface="Levenim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BBA-0B72-442F-8308-7D20E46FCFFA}" type="slidenum">
              <a:rPr b="1" lang="he-IL" sz="1400" spc="-1" strike="noStrike">
                <a:solidFill>
                  <a:srgbClr val="ffffff"/>
                </a:solidFill>
                <a:latin typeface="Times New Roman"/>
                <a:ea typeface="Levenim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11160" y="3500280"/>
            <a:ext cx="8785440" cy="19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6600"/>
            </a:br>
            <a:r>
              <a:rPr b="0" lang="he-IL" sz="6600" spc="-1" strike="noStrike">
                <a:solidFill>
                  <a:srgbClr val="ebddc3"/>
                </a:solidFill>
                <a:latin typeface="Tw Cen MT"/>
              </a:rPr>
              <a:t>חיים משותפים בנגב</a:t>
            </a:r>
            <a:br>
              <a:rPr sz="5000"/>
            </a:br>
            <a:r>
              <a:rPr b="0" lang="he-IL" sz="5000" spc="-1" strike="noStrike">
                <a:solidFill>
                  <a:srgbClr val="ebddc3"/>
                </a:solidFill>
                <a:latin typeface="Tw Cen MT"/>
              </a:rPr>
              <a:t>תיכון "דוד טוביהו" ב"ש </a:t>
            </a:r>
            <a:endParaRPr b="0" lang="en-US" sz="50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351" name="תמונה 1" descr=""/>
          <p:cNvPicPr/>
          <p:nvPr/>
        </p:nvPicPr>
        <p:blipFill>
          <a:blip r:embed="rId1"/>
          <a:stretch/>
        </p:blipFill>
        <p:spPr>
          <a:xfrm>
            <a:off x="2484360" y="61128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מציין מיקום תוכן 3" descr=""/>
          <p:cNvPicPr/>
          <p:nvPr/>
        </p:nvPicPr>
        <p:blipFill>
          <a:blip r:embed="rId1"/>
          <a:stretch/>
        </p:blipFill>
        <p:spPr>
          <a:xfrm>
            <a:off x="-3024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מציין מיקום תוכן 3" descr=""/>
          <p:cNvPicPr/>
          <p:nvPr/>
        </p:nvPicPr>
        <p:blipFill>
          <a:blip r:embed="rId1"/>
          <a:stretch/>
        </p:blipFill>
        <p:spPr>
          <a:xfrm>
            <a:off x="4114800" y="-12600"/>
            <a:ext cx="5029200" cy="6883200"/>
          </a:xfrm>
          <a:prstGeom prst="rect">
            <a:avLst/>
          </a:prstGeom>
          <a:ln w="0">
            <a:noFill/>
          </a:ln>
        </p:spPr>
      </p:pic>
      <p:pic>
        <p:nvPicPr>
          <p:cNvPr id="377" name="תמונה 4" descr=""/>
          <p:cNvPicPr/>
          <p:nvPr/>
        </p:nvPicPr>
        <p:blipFill>
          <a:blip r:embed="rId2"/>
          <a:stretch/>
        </p:blipFill>
        <p:spPr>
          <a:xfrm>
            <a:off x="0" y="2232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תמונה 4" descr=""/>
          <p:cNvPicPr/>
          <p:nvPr/>
        </p:nvPicPr>
        <p:blipFill>
          <a:blip r:embed="rId2"/>
          <a:stretch/>
        </p:blipFill>
        <p:spPr>
          <a:xfrm>
            <a:off x="4932360" y="648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מלבן 2"/>
          <p:cNvSpPr/>
          <p:nvPr/>
        </p:nvSpPr>
        <p:spPr>
          <a:xfrm rot="20442600">
            <a:off x="213480" y="2136600"/>
            <a:ext cx="686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  <a:cs typeface="Arial"/>
              </a:rPr>
              <a:t>גל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  <a:ea typeface="Arial"/>
              </a:rPr>
              <a:t>: "הפרויקט הזה שינה לי את צורת החשיבה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מלבן 3"/>
          <p:cNvSpPr/>
          <p:nvPr/>
        </p:nvSpPr>
        <p:spPr>
          <a:xfrm rot="20433000">
            <a:off x="2911320" y="333144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</a:rPr>
              <a:t>אילנה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: "ניתן לשנות את המצב הקיים. לראות את האחר, להכיר בו בלי פחד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4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-23760"/>
            <a:ext cx="91155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8" name="תמונה 4" descr="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611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4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תמונה 4" descr=""/>
          <p:cNvPicPr/>
          <p:nvPr/>
        </p:nvPicPr>
        <p:blipFill>
          <a:blip r:embed="rId2"/>
          <a:stretch/>
        </p:blipFill>
        <p:spPr>
          <a:xfrm>
            <a:off x="4238640" y="468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מלבן 1"/>
          <p:cNvSpPr/>
          <p:nvPr/>
        </p:nvSpPr>
        <p:spPr>
          <a:xfrm rot="20472000">
            <a:off x="-51120" y="1200600"/>
            <a:ext cx="79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</a:rPr>
              <a:t>שלי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: "לאחר המפגש המשותף הראשון רצינו רק לראות אותם שוב."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מלבן 2"/>
          <p:cNvSpPr/>
          <p:nvPr/>
        </p:nvSpPr>
        <p:spPr>
          <a:xfrm rot="20369400">
            <a:off x="278280" y="4079880"/>
            <a:ext cx="892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</a:rPr>
              <a:t>רועי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: "למדתי לקבל את האחר.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1" name="מציין מיקום תוכן 3" descr=""/>
          <p:cNvPicPr/>
          <p:nvPr/>
        </p:nvPicPr>
        <p:blipFill>
          <a:blip r:embed="rId1"/>
          <a:stretch/>
        </p:blipFill>
        <p:spPr>
          <a:xfrm>
            <a:off x="23760" y="0"/>
            <a:ext cx="397692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תמונה 4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מלבן 1"/>
          <p:cNvSpPr/>
          <p:nvPr/>
        </p:nvSpPr>
        <p:spPr>
          <a:xfrm rot="20008200">
            <a:off x="-6120" y="1769040"/>
            <a:ext cx="658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ניקול: " אני שמחה שאני בפרויקט הזה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מלבן 2"/>
          <p:cNvSpPr/>
          <p:nvPr/>
        </p:nvSpPr>
        <p:spPr>
          <a:xfrm rot="20457000">
            <a:off x="1581840" y="3508920"/>
            <a:ext cx="841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רוני: " נהנתי ללמוד על המסורת של הבדואים, המאכלים וכו'.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141300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775f55"/>
                </a:solidFill>
                <a:latin typeface="Tw Cen MT"/>
              </a:rPr>
              <a:t>מפגש דו לאומי ראשון:</a:t>
            </a:r>
            <a:br>
              <a:rPr sz="4000"/>
            </a:br>
            <a:r>
              <a:rPr b="0" lang="he-IL" sz="4000" spc="-1" strike="noStrike">
                <a:solidFill>
                  <a:srgbClr val="775f55"/>
                </a:solidFill>
                <a:latin typeface="Tw Cen MT"/>
              </a:rPr>
              <a:t> תלמידי בית ספר "אלמגד" מתארחים</a:t>
            </a:r>
            <a:br>
              <a:rPr sz="4000"/>
            </a:br>
            <a:r>
              <a:rPr b="0" lang="he-IL" sz="4000" spc="-1" strike="noStrike">
                <a:solidFill>
                  <a:srgbClr val="775f55"/>
                </a:solidFill>
                <a:latin typeface="Tw Cen MT"/>
              </a:rPr>
              <a:t> אצל תלמידי תיכון "דוד טוביהו"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תמונה 3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5997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מציין מיקום תוכן 3" descr=""/>
          <p:cNvPicPr/>
          <p:nvPr/>
        </p:nvPicPr>
        <p:blipFill>
          <a:blip r:embed="rId1"/>
          <a:stretch/>
        </p:blipFill>
        <p:spPr>
          <a:xfrm>
            <a:off x="-36360" y="-25560"/>
            <a:ext cx="4968720" cy="7008840"/>
          </a:xfrm>
          <a:prstGeom prst="rect">
            <a:avLst/>
          </a:prstGeom>
          <a:ln w="0">
            <a:noFill/>
          </a:ln>
        </p:spPr>
      </p:pic>
      <p:pic>
        <p:nvPicPr>
          <p:cNvPr id="407" name="תמונה 4" descr=""/>
          <p:cNvPicPr/>
          <p:nvPr/>
        </p:nvPicPr>
        <p:blipFill>
          <a:blip r:embed="rId2"/>
          <a:stretch/>
        </p:blipFill>
        <p:spPr>
          <a:xfrm>
            <a:off x="4932360" y="12600"/>
            <a:ext cx="442116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מלבן 1"/>
          <p:cNvSpPr/>
          <p:nvPr/>
        </p:nvSpPr>
        <p:spPr>
          <a:xfrm rot="20107800">
            <a:off x="-715680" y="1561320"/>
            <a:ext cx="920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</a:rPr>
              <a:t>זהבה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: "דיברנו בנינו, צחקנו והתיידדנו....יש לנו אותה נשמה ואותו גיל ורצון להנות מימנו"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מלבן 3"/>
          <p:cNvSpPr/>
          <p:nvPr/>
        </p:nvSpPr>
        <p:spPr>
          <a:xfrm rot="20355600">
            <a:off x="2189520" y="3737160"/>
            <a:ext cx="7504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 u="sng">
                <a:solidFill>
                  <a:srgbClr val="000000"/>
                </a:solidFill>
                <a:uFillTx/>
                <a:latin typeface="Tw Cen MT"/>
              </a:rPr>
              <a:t>אביחי</a:t>
            </a:r>
            <a:r>
              <a:rPr b="0" lang="he-IL" sz="5400" spc="-1" strike="noStrike">
                <a:solidFill>
                  <a:srgbClr val="000000"/>
                </a:solidFill>
                <a:latin typeface="Tw Cen MT"/>
              </a:rPr>
              <a:t>: "למדתי לקבל את השונה, לא להסתכל על הדת כמכשול"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1" name="מציין מיקום תוכן 3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תמונה 4" descr="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775f55"/>
                </a:solidFill>
                <a:latin typeface="Tw Cen MT"/>
              </a:rPr>
              <a:t>תלמידי תיכון "דוד טוביהו" וצוות המורים המנחים מודים לכולם על תוכנית נפלאה.</a:t>
            </a:r>
            <a:br>
              <a:rPr sz="4400"/>
            </a:br>
            <a:r>
              <a:rPr b="0" lang="he-IL" sz="4400" spc="-1" strike="noStrike">
                <a:solidFill>
                  <a:srgbClr val="775f55"/>
                </a:solidFill>
                <a:latin typeface="Tw Cen MT"/>
              </a:rPr>
              <a:t>המון שנים של עשייה מבורכת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תמונה 3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5997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300" spc="-1" strike="noStrike">
                <a:solidFill>
                  <a:srgbClr val="775f55"/>
                </a:solidFill>
                <a:latin typeface="Tw Cen MT"/>
              </a:rPr>
              <a:t>מנהלת חטיבה עליונה בבה"ס, הגברת חיימי איריס </a:t>
            </a:r>
            <a:br>
              <a:rPr sz="3300"/>
            </a:br>
            <a:r>
              <a:rPr b="0" lang="he-IL" sz="3300" spc="-1" strike="noStrike">
                <a:solidFill>
                  <a:srgbClr val="775f55"/>
                </a:solidFill>
                <a:latin typeface="Tw Cen MT"/>
              </a:rPr>
              <a:t>פותחת את מפגש ההיכרות בין שתי הקבוצות</a:t>
            </a:r>
            <a:br>
              <a:rPr sz="3300"/>
            </a:br>
            <a:endParaRPr b="0" lang="en-US" sz="3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מציין מיקום תוכן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697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775f55"/>
                </a:solidFill>
                <a:latin typeface="Tw Cen MT"/>
              </a:rPr>
              <a:t>סבב היכרות בין התלמידים. </a:t>
            </a:r>
            <a:br>
              <a:rPr sz="3200"/>
            </a:br>
            <a:r>
              <a:rPr b="0" lang="he-IL" sz="3200" spc="-1" strike="noStrike">
                <a:solidFill>
                  <a:srgbClr val="775f55"/>
                </a:solidFill>
                <a:latin typeface="Tw Cen MT"/>
              </a:rPr>
              <a:t>למרות מגבלות השפה הסבב היה נפלא.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מציין מיקום תוכן 3" descr=""/>
          <p:cNvPicPr/>
          <p:nvPr/>
        </p:nvPicPr>
        <p:blipFill>
          <a:blip r:embed="rId1"/>
          <a:stretch/>
        </p:blipFill>
        <p:spPr>
          <a:xfrm>
            <a:off x="85680" y="2133720"/>
            <a:ext cx="3981600" cy="3095640"/>
          </a:xfrm>
          <a:prstGeom prst="rect">
            <a:avLst/>
          </a:prstGeom>
          <a:ln w="0">
            <a:noFill/>
          </a:ln>
        </p:spPr>
      </p:pic>
      <p:pic>
        <p:nvPicPr>
          <p:cNvPr id="358" name="תמונה 4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מציין מיקום תוכן 3" descr=""/>
          <p:cNvPicPr/>
          <p:nvPr/>
        </p:nvPicPr>
        <p:blipFill>
          <a:blip r:embed="rId1"/>
          <a:srcRect l="-592" t="0" r="0" b="0"/>
          <a:stretch/>
        </p:blipFill>
        <p:spPr>
          <a:xfrm>
            <a:off x="3998880" y="30240"/>
            <a:ext cx="5145120" cy="3003480"/>
          </a:xfrm>
          <a:prstGeom prst="rect">
            <a:avLst/>
          </a:prstGeom>
          <a:ln w="0">
            <a:noFill/>
          </a:ln>
        </p:spPr>
      </p:pic>
      <p:pic>
        <p:nvPicPr>
          <p:cNvPr id="361" name="תמונה 5" descr=""/>
          <p:cNvPicPr/>
          <p:nvPr/>
        </p:nvPicPr>
        <p:blipFill>
          <a:blip r:embed="rId2"/>
          <a:srcRect l="0" t="0" r="-1627" b="0"/>
          <a:stretch/>
        </p:blipFill>
        <p:spPr>
          <a:xfrm>
            <a:off x="0" y="28440"/>
            <a:ext cx="4108320" cy="6804000"/>
          </a:xfrm>
          <a:prstGeom prst="rect">
            <a:avLst/>
          </a:prstGeom>
          <a:ln w="0">
            <a:noFill/>
          </a:ln>
        </p:spPr>
      </p:pic>
      <p:pic>
        <p:nvPicPr>
          <p:cNvPr id="362" name="תמונה 6" descr=""/>
          <p:cNvPicPr/>
          <p:nvPr/>
        </p:nvPicPr>
        <p:blipFill>
          <a:blip r:embed="rId3"/>
          <a:stretch/>
        </p:blipFill>
        <p:spPr>
          <a:xfrm>
            <a:off x="4003560" y="3036960"/>
            <a:ext cx="51404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65200" y="-458640"/>
            <a:ext cx="7991280" cy="37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775f55"/>
                </a:solidFill>
                <a:latin typeface="Tw Cen MT"/>
              </a:rPr>
              <a:t>מפגש דו לאומי שני:</a:t>
            </a:r>
            <a:br>
              <a:rPr sz="4400"/>
            </a:br>
            <a:r>
              <a:rPr b="0" lang="he-IL" sz="4400" spc="-1" strike="noStrike">
                <a:solidFill>
                  <a:srgbClr val="775f55"/>
                </a:solidFill>
                <a:latin typeface="Tw Cen MT"/>
              </a:rPr>
              <a:t> תלמידי תיכון "דוד טוביהו" מתארחים</a:t>
            </a:r>
            <a:br>
              <a:rPr sz="4400"/>
            </a:br>
            <a:r>
              <a:rPr b="0" lang="he-IL" sz="4400" spc="-1" strike="noStrike">
                <a:solidFill>
                  <a:srgbClr val="775f55"/>
                </a:solidFill>
                <a:latin typeface="Tw Cen MT"/>
              </a:rPr>
              <a:t> אצל תלמידי בה"ס "אלמגד"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4" name="מציין מיקום תוכן 5" descr=""/>
          <p:cNvPicPr/>
          <p:nvPr/>
        </p:nvPicPr>
        <p:blipFill>
          <a:blip r:embed="rId1"/>
          <a:stretch/>
        </p:blipFill>
        <p:spPr>
          <a:xfrm>
            <a:off x="20520" y="2924280"/>
            <a:ext cx="9082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מציין מיקום תוכן 3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מציין מיקום תוכן 3" descr=""/>
          <p:cNvPicPr/>
          <p:nvPr/>
        </p:nvPicPr>
        <p:blipFill>
          <a:blip r:embed="rId1"/>
          <a:stretch/>
        </p:blipFill>
        <p:spPr>
          <a:xfrm>
            <a:off x="-27000" y="33480"/>
            <a:ext cx="9171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מציין מיקום תוכן 3" descr=""/>
          <p:cNvPicPr/>
          <p:nvPr/>
        </p:nvPicPr>
        <p:blipFill>
          <a:blip r:embed="rId1"/>
          <a:stretch/>
        </p:blipFill>
        <p:spPr>
          <a:xfrm>
            <a:off x="-55440" y="3352680"/>
            <a:ext cx="4914720" cy="3505320"/>
          </a:xfrm>
          <a:prstGeom prst="rect">
            <a:avLst/>
          </a:prstGeom>
          <a:ln w="0">
            <a:noFill/>
          </a:ln>
        </p:spPr>
      </p:pic>
      <p:pic>
        <p:nvPicPr>
          <p:cNvPr id="371" name="תמונה 4" descr=""/>
          <p:cNvPicPr/>
          <p:nvPr/>
        </p:nvPicPr>
        <p:blipFill>
          <a:blip r:embed="rId2"/>
          <a:stretch/>
        </p:blipFill>
        <p:spPr>
          <a:xfrm>
            <a:off x="-55440" y="0"/>
            <a:ext cx="4914720" cy="3352680"/>
          </a:xfrm>
          <a:prstGeom prst="rect">
            <a:avLst/>
          </a:prstGeom>
          <a:ln w="0">
            <a:noFill/>
          </a:ln>
        </p:spPr>
      </p:pic>
      <p:pic>
        <p:nvPicPr>
          <p:cNvPr id="372" name="תמונה 5" descr=""/>
          <p:cNvPicPr/>
          <p:nvPr/>
        </p:nvPicPr>
        <p:blipFill>
          <a:blip r:embed="rId3"/>
          <a:stretch/>
        </p:blipFill>
        <p:spPr>
          <a:xfrm>
            <a:off x="4859280" y="14400"/>
            <a:ext cx="428472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3:27:04Z</dcterms:created>
  <dc:creator>user</dc:creator>
  <dc:description/>
  <dc:language>en-US</dc:language>
  <cp:lastModifiedBy>user</cp:lastModifiedBy>
  <dcterms:modified xsi:type="dcterms:W3CDTF">2015-05-14T13:13:42Z</dcterms:modified>
  <cp:revision>18</cp:revision>
  <dc:subject/>
  <dc:title>חיים משותפים בנגב דוד טוביהו ב"ש – שגב שלום</dc:title>
</cp:coreProperties>
</file>